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C068-D125-41AE-BF79-CA22FAC4F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1CF5-2A72-4A71-8207-39CF34684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87A4-1BB8-446F-A958-E87C1B229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75D8-3C04-45A9-8FF3-1EAF7A16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4DE8-E434-48B6-891E-B321B6976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A926-E647-4BB3-9256-C19866F57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DDB8-D06E-48BF-B97A-A29AECC6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4EA5-033D-4027-ABAF-F2ECE65B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1D03-F0F3-4D65-AB1A-E054306E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D8E7-0848-4128-93E5-B09D781E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3968-E7E2-4276-BABC-25E14386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7F38-9D60-4844-92E4-B39E53D0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8479-8782-47FA-A3DA-000829EE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7924-714A-4B41-BF7A-0BDA8DEF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0022-7926-46E2-93D0-3E21C4D51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erna Abdelhal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erna Abdelhalem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752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Merna Abdelhale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erna Abdelhale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2004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429000"/>
            <a:ext cx="18288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i nombre es Merna. Tengo 14 años. Estoy feliz y loca. Vivo en New york. Yo tengo tus hermanos. Amo mi amig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3029040" y="320040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qué es el deberes?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3657600" y="312408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am bien. I dont want to go to your house. Our friends are in my house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9559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Cómo estás tú hoy? I am very bored. Can you come to my house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36576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Nosotros tenemos matemáticas dede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33412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743200" y="525780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ñana yo tengo la fiesta. ¿Es todos caminar aquí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295596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373392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osotros somos . Ayat no camina. Ella e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ajar. Tú eres simpático par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7T18:30:31Z</dcterms:modified>
  <cp:revision>111</cp:revision>
  <dc:subject/>
  <dc:title>Profile</dc:title>
</cp:coreProperties>
</file>